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F02-F795-49C7-A374-4FBC2C31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B9E-9DEB-4BBA-991D-ADD72941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A95-BA73-49A8-BCB5-3601F69C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758-090C-407A-AF31-1CC778B7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D7BB-E990-4384-B36D-CFD1DD25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F2C8-695E-4EC5-9625-A96DE66A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9B1F-D307-4284-BF82-4D226544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D51D-CA5D-4BD7-9C86-867C0627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CB97-C07E-40D5-A46C-CF361285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928F-935D-4543-992F-EBBB8037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043D-96E1-4384-9FB5-74460616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5EC-C258-4155-B554-D76A7611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B6C3-458A-42FD-A963-664CA495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1110-F423-451E-8AEB-3C0986F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19F7-B62B-49DF-B5CE-BA1E9963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214-F8F2-4F74-965B-75A87A48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1BD4-EF4F-419C-A35F-61CED9F3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8DD-014D-4C94-8691-26888BE1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2F7-0328-4F8D-A292-C3E590C3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1B6-A117-469E-AB40-5E83EC8B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3E7-1B61-45B8-9D65-569AB9D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440-1C85-457B-AE19-9E49A9CF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4BA-9A9A-4BDC-8C3E-F76FFCB4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E82-B4C0-4759-8A44-58A84EB7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776B-AD33-4108-BE37-0C2CFD6F5D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0FA3-E945-46F0-AA6C-66CE901C26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ather and Clim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4495680"/>
            <a:ext cx="1744560" cy="18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day, you will learn tha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and climate are always changing. At times the changes can be sudden and dramatic, while on other occasions the changes are subtle and occur over long periods of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 should be able to ident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weather and climate differen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es weather affect climat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e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refers to day-to-day temperature, precipitation activity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sunshine, rain, cloud cover, winds, hail, snow, sleet, freezing rain, flooding, blizzards, ice storms, thunderstorms, steady rains from a cold front or warm front, excessive heat, heat waves and m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ols to Measure We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Ga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you how much precipitation we’ve rece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you how hot or cold a place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V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you which direction the wind is blow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you which way is North, so you can use a Wind V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re is an example of a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ather 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0760" y="2487600"/>
            <a:ext cx="5127840" cy="357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m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escription of the long-term average pattern of weather in a particular area. Some scientists define climate as the average weather for a particular region and time period, usually taken over 30-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ne example of a Climate M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Rain per Month in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6324840" cy="3576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other Example of a Climate M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9926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Temperatures in New York City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5129280" cy="426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osphe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osphere is made up of clouds and particles in the sky and it’s where our weather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827360" cy="182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9:09:45Z</dcterms:created>
  <dc:creator>JFLORES9</dc:creator>
  <dc:description/>
  <dc:language>en-US</dc:language>
  <cp:lastModifiedBy>JFLORES9</cp:lastModifiedBy>
  <dcterms:modified xsi:type="dcterms:W3CDTF">2010-10-14T19:43:05Z</dcterms:modified>
  <cp:revision>4</cp:revision>
  <dc:subject/>
  <dc:title>Weather and Climate</dc:title>
</cp:coreProperties>
</file>